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DDA-3E33-4959-8C0A-938E9840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8C7-AD68-4106-9ADC-6A401101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0C9-B704-4C4C-B1C9-925ECC55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0AC-4A1A-493D-9284-491A8F12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7A04-6B26-4DEC-BB60-645F66A0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78A1-E791-41AF-A408-12830C50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05B7-2EC4-405B-9DA3-F6832BE2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CF34-6249-4C52-9473-8A5A0B48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B8CC-A72B-4CD1-B830-98D904D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2F31-41F9-46DA-8CAC-AB548AC6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ADC3-66B3-4B52-9E02-FE76E26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C76-67C5-4447-B2F9-4EC27D13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C52C-490A-4DBE-B526-25B1E34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F9BC-DE1C-4EC5-B1F6-A99F69DD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D6EF-0D8C-4CDC-9162-B3BCFCC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9DFD-4F07-44C6-9467-79465AC9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76F9-65D8-46D7-9423-11E0FE05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BF6-D995-4F3A-B3EF-94AE98B0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895-8694-4D51-8529-910DDC75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6E3-28DC-4D2B-841E-92F98D67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03F-0FB1-4E13-8294-DC46EA4B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562-2451-40F5-BADD-623D3EF8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320-B0BB-47CB-9A54-405A2F9E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9D9-F6D2-45E0-9240-AB6392F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5365-FE98-4F3C-949C-8CE0168BDE8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DAF-97FE-40C1-A716-CC64580CF4D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612800"/>
            <a:ext cx="7086600" cy="12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Age of Metternic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1815-18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The Congress of Vienna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&amp;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Its Impact on Europ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ussia got Finland and effective control over the new kingdom of Polan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ussia was given much of Saxony and important parts of Westphalia and the Rhine Provinc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stria was given back most of the territory it had lost and was also given land in Germany and Italy (Lombardia and Venice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ritain got several strategic colonial territories, and they also gained control of the sea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rance was restored under the rule of Louis XVIII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pain was restored under Ferdinand VII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Europe after Congress of Vienna, 1815"/>
          <p:cNvPicPr/>
          <p:nvPr/>
        </p:nvPicPr>
        <p:blipFill>
          <a:blip r:embed="rId1"/>
          <a:stretch/>
        </p:blipFill>
        <p:spPr>
          <a:xfrm>
            <a:off x="5095800" y="1752480"/>
            <a:ext cx="4048200" cy="4286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Map, Napoleonic 1810"/>
          <p:cNvPicPr/>
          <p:nvPr/>
        </p:nvPicPr>
        <p:blipFill>
          <a:blip r:embed="rId2"/>
          <a:stretch/>
        </p:blipFill>
        <p:spPr>
          <a:xfrm>
            <a:off x="0" y="1828800"/>
            <a:ext cx="51055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535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he Impact o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Balance of pow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Collective security: Quadruple Alliance (Russia, Britain, Austria, Prussia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Congress System led to alliances all in hopes of putting down revolution and liberal ideology, but … failed to address nationalism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gress System (Meeting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Aix-la-Chapelle 1818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Removal of foreign troops from Fr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Repar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Fr. admitted to Quadruple Alliance, now Quintuple Allianc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Troppau Protocols 1820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Reaction to rebellions in Sicily and Spain against Bourbon monarch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Declared a combined alliance against these revolutionaries, but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Britain felt differently, thus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Alliance begins to split: France and Britain are the Liberal Bloc; Austria, Prussia, and Russia are the Conservative B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s within the Metternich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Britain clearly opposed to intervention in domestic affai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Austria is a multi-ethnic state; thus suppressive tactics are utilized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Russian interests in the Dardanelles and Bosporus Straigh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Russian, British, and French support for Greek independenc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Map of Greece"/>
          <p:cNvPicPr/>
          <p:nvPr/>
        </p:nvPicPr>
        <p:blipFill>
          <a:blip r:embed="rId1"/>
          <a:stretch/>
        </p:blipFill>
        <p:spPr>
          <a:xfrm>
            <a:off x="1295280" y="184320"/>
            <a:ext cx="6553440" cy="64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map of Central/Western Europe 1815 with Germany in red outline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ince Metternich (1773-185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375444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Austrian diploma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Architect of the Congress of Vien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Conservative: a believer in Edmund Burke’s ideolog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857240"/>
            <a:ext cx="46292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Rebellions in France against the Bourbon government (Charles X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Rebellions in the Netherlands by Belgians. Britain supports Belgia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drich Ludwig Jah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2819520" cy="38102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33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Father of gymnastic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Invented the parallel bars, the rings, vaulting horse, balance beam, and horizontal bar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urschenschaf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member and Prussian patrio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2837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ces at 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beral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reeing of serfs in Russ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servat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ess of Vien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1120" y="4535640"/>
            <a:ext cx="83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our turn: add nine more examples from Chapter Fiv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r each category.  Read the entire chapter for this.  Du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next class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523520"/>
            <a:ext cx="3754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beral Ac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harter under Louis XVII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urchenschaf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eek independe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azzini Young Italy Move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cond French 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elgium independe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848 Revolut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r. and Fr. not joining Troppau Protoco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55680" y="1523520"/>
            <a:ext cx="3754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servative Ac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gress of Vienna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tternich’s polic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narch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cert of Europ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alance of p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rlsbad Decre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gress syst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oppau Protocol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llective secur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Quadruple Allia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ensorshi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olice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mund Burke (1742-179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375444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radi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atus Qu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beralism leads to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MOB RU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336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221400"/>
            <a:ext cx="7467480" cy="70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o me the word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reedom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has not the value of a starting-point,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ut of an actual goal to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굴림"/>
              </a:rPr>
              <a:t>b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 striven for. The word order designate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tarting-point. It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is only on order that freedom can be based.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ithout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rder as a foundation the cry for freedom is nothing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ore than the endeavour of some party or other for an end it has in view.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When actually carried out in practice, that cry for freedom will inevitably express itself in tyranny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t all times and in all situations I was a man of order, yet my endeavour was always for true and not for pretended liberty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굴림"/>
              </a:rPr>
              <a:t>”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굴림"/>
              </a:rPr>
              <a:t>-Prince Metternich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servatis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Ideological position which upholds law and order, tradition, and authorit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Resistance to chang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Reaction to the liberal and nationalist ideas of the French Revolutio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ess of Vien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wo important issue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gitimacy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-establish monarchial rule in Europe, i.e. the Bourbons (Spain and France) and the Hapsburgs (Austria and Ital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alance of Pow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oundaries are redrawn: no kingdom to become too powerful/check the expansion of anothe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Buffer zon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tten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stria: Prince Metternic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ussia: King F. William I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ussia: Czar Alexander 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ritain: Lord Castlereag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But to be nice…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rance: Talleyr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57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cess Lieven (Dorothea Christorovna Benckendorff:1785-18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tternich used this young, attractive woman as…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spy on Lord Castlereagh and Alexander I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ved the high society life all the way to Englan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as a Lady in Waiting in the Russian Cour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29200" y="1676160"/>
            <a:ext cx="26114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3009960" cy="3581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0" y="4191120"/>
            <a:ext cx="2022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gress of Vienna (181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rance was deprived of all territory conquered by Napole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Dutch Republic was united with the Austrian Netherlands to form a single kingdom of the Netherlands under the House of Orang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rway and Sweden were joined under a single ruler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witzerland was declared neutral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8:16:11Z</dcterms:created>
  <dc:creator>Hugh Plouffe</dc:creator>
  <dc:description/>
  <dc:language>en-US</dc:language>
  <cp:lastModifiedBy>hughp</cp:lastModifiedBy>
  <dcterms:modified xsi:type="dcterms:W3CDTF">2006-10-10T15:35:28Z</dcterms:modified>
  <cp:revision>12</cp:revision>
  <dc:subject/>
  <dc:title>The Age of Metternich </dc:title>
</cp:coreProperties>
</file>